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0FA-4D1D-4862-9BED-ACAC80F35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683-A8C4-4E8C-BD77-2C636129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C0E-5721-4ABE-B5AC-7592DB68C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920-A47D-41CE-BC6D-60A2FFF5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A6B3-B85B-4B75-9810-A02D883E2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C3B2-19E6-42D3-AB5A-2F25E216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8E54-A280-4E0E-BF3D-35CE02372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4B69-22A5-4799-8508-3BD79FD1D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723C-4394-4044-9AA9-D18B69CAA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6C65-2AE0-4E5F-A0C9-99050FBBC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63C8-1780-4C69-B775-0565D3633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4F88-2569-4165-9C8A-8D15A5C8A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3AFA-62F5-4855-BDC7-F5F08B33D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43D5-836A-464B-9FF4-34BF7311F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5BDC-5076-4E43-9B7A-0AF69A678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5D7F-3C0B-4EC1-B196-AB564568A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2AD3-EA90-4E9E-898D-547BF47442B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d by Law to withhold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yroll taxes represent a liability until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ederal Income Tax – required in all 50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32A-B4C2-4451-8D48-9F86C9A455D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C:\Documents and Settings\mcm08@fuse.net\My Documents\2005 Business Projects\Slides for Century 21 Accounting\Blue\ch12\C21_blue_1207.jpg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AFBB-B349-42C5-96C9-867C3D0BAB5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17" name="Picture 14" descr="C:\Documents and Settings\mcm08@fuse.net\My Documents\2005 Business Projects\Slides for Century 21 Accounting\Blue\ch12\C21_blue_1209.jpg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5" descr="C:\Documents and Settings\mcm08@fuse.net\My Documents\2005 Business Projects\Slides for Century 21 Accounting\Blue\ch12\C21_blue_1209.jpg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0" descr="C:\Documents and Settings\mcm08@fuse.net\My Documents\2005 Business Projects\Slides for Century 21 Accounting\Blue\ch12\C21_blue_1209.jpg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6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2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22" name="Freeform 21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23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25" name="Freeform 24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5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 and Medicare Tax (FICA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Insurance Contribution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old-age, survivors, and disability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% of total earnings up to 118,500 (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hospital Insurance for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5% of total earning (no tax bas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6A53-C569-4949-9A83-2F8C24D945D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0D3-8BB3-4E87-96B3-80769296A16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07:26Z</dcterms:modified>
  <cp:revision>21</cp:revision>
  <dc:subject/>
  <dc:title>Lesson 12-1</dc:title>
</cp:coreProperties>
</file>